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517-7F3F-4DCD-9AF2-8C82B7F7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228-DBAE-485A-A1F1-4FB0D6F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156B4-DC97-4E28-868C-35207E90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3889B-CEBA-4DDD-A2B6-447F54F7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EAF20-444D-42E7-9DC2-43165700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B920E-F787-4346-91AC-D065918A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FD1BA-1148-4C54-9B2C-6848A69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3C39-34C0-4F2F-8621-2666F931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1506-DF24-4392-B6ED-3E64A84C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6E543-75B3-4A03-8AEF-0E4279E5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6040F-CA5F-4E4C-A9D9-EF0C1B6F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65A98-7513-406D-8BB3-E14AA13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144-9B5B-448A-9C54-E014041C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B2DB7-D774-4D42-A39A-1BC32260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8763E-A8BD-4B65-A498-396AFCCA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9AE71-56CD-41C6-84E5-98FB1D4F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68510-F500-40CE-9058-1204CB72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71310-C3D4-4390-A5D0-36B8D5E6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1B28E-2884-4EED-80BC-3E8D4241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74413-C9CF-4500-B004-7542563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B567F-339F-4B5E-A6CC-E1404139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DCB25-7887-4DA4-AB0F-006F72C1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A70B6-8410-4B70-973C-B33A2C88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15D-1A56-4412-ACD8-D908BBAC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38F3D-0302-4ABF-BFC9-C39D4F1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9264B7-6E97-4479-85DB-2CF7A77C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7B8FAC-8499-41C0-A5A1-AB30B53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11CDE4-B432-41D6-961E-D5DC116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9D869E-B7E2-4E68-9585-20C251A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9D3AA6-6BF6-4FFB-B914-2F9917F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D62A2F-E176-4E9E-9AF1-6E57660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31020C-77DF-4912-AE03-8B4319E5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BCA90A-6C4C-4721-9470-21BA948B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AFAB0-7D53-4499-8F41-F889A491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AF9C-50F5-404E-B7D4-D6B684AC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40BD74-547F-4BA6-B0EF-BBFA8B17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C050B6-5CE6-422F-BE5D-7DBDBE6B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40A801-2BE6-4E1B-A819-86C0616E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AF221-B5E3-4CF9-9EE7-D6BFA068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D4DD6-E2CC-4058-B1BD-D1C3C015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D3129-911B-4F1D-93A8-3D7EF6D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A3B7-90C4-428A-BB34-8A8C9705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7216B-7092-4D4C-BAE6-13BA0CFC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14350-7EE5-4463-98D1-C5A19BD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27E52-9D9E-436C-9BB4-D764423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6E2F-41FE-4AFF-81F2-5D57C71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97E91-C92B-4D4D-9F09-D1BFB1E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ADD5D-7404-4CEE-8BEB-A61E4FD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72748-7EBE-4EF3-B975-5304FC5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0DCF3-9DE3-4FC5-BD34-EA8ED35A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2D31E-A754-4ED0-91A1-2CFDBD04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DDE0-FC74-4DB3-8B2F-F312926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06B-2F99-478A-B12D-99039F62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37F2-20F1-4FFA-B32F-62F79FA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C9A0-2230-4E2A-A99C-AD293744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C477-1795-4AD6-876E-A906D8E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C75-AC08-4725-8021-2F4CA3E5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F593-C09C-46DA-BAA4-CED2E4E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658F-46AA-4289-8282-7458C8D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2DE1-4B76-419D-A002-E7B7EB33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6BA-0AFE-43CF-8144-6628E0F4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9DD9-34EE-498A-9F83-3B38C404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73A8-D725-4681-AC1C-1C8834F8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7AF5-2813-4F8D-863F-362BC4AD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9989-B492-4E78-AC69-684AE090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85A0-5D2B-4CA3-86A0-3D3F2FA9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2A59-C520-451A-B2D6-123FA93A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596-C1CE-4160-AC70-6ACE03D3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F6E9-E296-40B4-B6FD-4F82D139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BD52-3D86-4012-AB97-A7E5155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2DE9-9998-4738-A4AE-A4E3122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980C-9E1C-40A3-A872-9DD497B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3EA2-EED4-4A68-87F7-7D7A013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35CA-0422-4BCC-8DC9-FE418B24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1A7A-BB08-4ABB-AE36-8F038384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A743-A528-4C31-B5AA-E738D67E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82C0-2600-473E-AFF1-240544E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221A-5912-43DA-8EC2-DA320FB9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E36-78CB-4297-8D5A-2F813F5B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0BB8-BBCC-4568-8CB7-6673B56E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5810-325D-4EBD-9328-D5752B74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0EEA3-9147-4A8C-8084-9115572E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9010-8843-4D0D-BAFE-D993238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47E7-1F39-4560-B072-2644C55F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DEFE-E905-46CD-BD0C-659B908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CE0F-7519-4C72-9551-583A9CEF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186F-F9F3-4E23-AD65-4F5DFB72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7E8A-A3B8-4B4C-ADE9-C993DCBD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6616-ED6C-48E2-AE83-9FE56C42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409-C7B8-479E-9B6D-7976A93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D3A11-597E-41B1-A7E0-6EC930A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15C96-5507-4CA1-B327-DD927D57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356E-DFD9-443B-A7D0-8E1A09A5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E288-5CE4-41E2-B621-8543C13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CBA7-B26B-44B1-B3A2-F6972DA6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3FD2-0984-4D81-8E64-221B490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0A12-F768-47FC-84F4-C841F49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9BA0-7592-49BE-A5B9-B4A7A62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04CD-21D0-42D1-99C9-75E4C1EA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BB8D4-66D0-4371-A4A6-B7045B45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416-192D-4786-B87E-80C18ABD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C3B8-B474-4DE7-B796-DF295D26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8FBCC-E56E-4D92-8EA4-40F560BC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25FBA-4F69-4126-AFE8-A92DBAF1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69831-F4B5-4CED-BEF3-052E9C1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4E56A-5620-4B33-9889-73BEF183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D1569-E805-4C91-B4B1-28703AE0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6E57B-D5C8-4366-955B-36AA0DD6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2A994-A2E7-47C3-AD04-C6521B14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1C47F-5A6A-4B53-BA28-B366026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48BF0-2F74-4E31-A702-719102F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5F2-028F-46E3-AB52-F8B47E79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3C7CD-9AFD-4472-AF43-CE8BB66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EC701-0678-48A9-A20A-AFDA405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9993E-1F75-444A-BD76-F15319AF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CDB9D-15A3-43FF-B9DD-FECFCFD8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BA58-D161-41A3-B21E-0BB9BE52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CAA4-FCD8-4029-AEA5-5841BDAB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804D-76E5-40EB-98CF-B4053AB5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D1D9A-C523-4905-8527-C2FCF64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65ED-5AFC-4D63-B641-C5B4AE1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489EF-879F-4D33-8AA0-6861E75D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058-CD09-4DFD-9B6A-58F143F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4F13-0863-48A9-89F3-4EFA73F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6EBDC-66A6-45C5-8637-CC37E5B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AF50-30BC-43BD-B540-9C90D1D6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C6B6-2A7D-4D74-8570-8DD7EBEC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AC255-93DF-4FFD-A980-850DC46A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68396-4107-49EC-8DE6-0999B157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A73C3-E433-40C1-BDA8-867A8B1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68E82-D324-476E-977A-93BB570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28E3-34F6-4C09-9BFC-2A7D178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7AC2-7411-46A7-B1DF-9A419A06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5FC-9B8A-42B4-9AA1-774CB7A9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60AA-387A-48C4-AE11-956586C7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3025B-28B4-4892-8DA6-7D42D70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78524-F8CF-411E-B02B-4EFEAB2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2F5F-63E7-4883-B2AB-EF10FFB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F7C05-BB15-489E-84C4-450E93B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517E6-E062-43FD-A956-CA4851A8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EF97-117E-413C-B800-DB860741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66043-1504-4D28-84D4-920E6053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AFA44-5596-40C0-9DF2-569D85A5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38DAD-3C6F-44B8-AA92-26403AA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E87-1C72-48DA-B6D2-12FB2BC44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728-3AC4-45B2-BBF7-215B2B33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8E6-6D57-43B8-A157-FC7B921FA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6187-3448-436D-BB96-E968F8F10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32E-683D-4191-B171-EA771B0D9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7D4C-4E1F-46DF-835D-40BF77DA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D20-E520-48C7-883B-8C636573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D570-06D9-483F-89E0-FEDB7771E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CC6A-0DA9-4EF5-A9B3-7EFD58589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8C0-2839-43C2-954A-B413BDDD6E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2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F3C-BCB6-453A-810B-24080B4532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309-8CF1-49A0-90C6-53E4DFCB4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ravlang.com/blog/wp-content/uploads/2010/04/dubai-mall-330x440-jp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u="sng">
                <a:solidFill>
                  <a:srgbClr val="e5ffff"/>
                </a:solidFill>
                <a:uFillTx/>
                <a:latin typeface="Tahoma"/>
              </a:rPr>
              <a:t>Mi viaje a Havana, Cuba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unter M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3"/>
          <a:stretch/>
        </p:blipFill>
        <p:spPr>
          <a:xfrm>
            <a:off x="2209680" y="4572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3047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eec94"/>
                </a:solidFill>
                <a:latin typeface="Times New Roman"/>
              </a:rPr>
              <a:t>El primer día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048120" cy="22194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1523880" y="4191120"/>
            <a:ext cx="632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oy llegué a Havana, Cuba. Mi hotel 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 Caribe Hotel Havana Riviera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hotel es grande, y muy bonito. Tiene una piscina. Esta en la playa. Tiene muchas actividades; Buc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é en el agua, jugar al golf, y na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é en la piscina. En Cuba es hace sol. El sol brilla mucho. Necisito los gafas de sol, y un traje de b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͠͠͠n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a playa es muy grande, y muy bonito. La comida en el hotel es delici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2514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 Caribe Hotel Havana Riv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Segundo D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676160" y="4571640"/>
            <a:ext cx="6019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playa es muy grande, y muy bonito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arena es increíble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Las olas son grandes. Nad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n el agua. Fui surfing a la tabla hawaiiana. No, no esqui de agua. Jugar al tenis a la hotel. Yo fui a la restuarante delicioso. Yo compro una hamburguesa, y los papas fritas, a la hotel. Jugar al tenis en el hotel, con mi ami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105520" cy="220176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7621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pl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Tres 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fui a la tienda en Havana, Cuba. Es muy popular, y muy grande. Hay muchas tiendas. Yo compro los gafas de sol, el traje de bano, y los sombrero para mis padres. No, no compro un camisa. Yo fui a la resturaunte muy bien. Yo compro un pescado, y pollo. Es muy delicioso. 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pués de golf, fui a mi hotel para nadar. Luego me fui a dormi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362320"/>
            <a:ext cx="2681280" cy="2895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647712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t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tro D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90720" y="48769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oy en día, me fui a jugar al golf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 de Havana, Cuba. Es muy bonito, y muy dificil porque de agua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ugué muy bien. Pero, muy ocupado. Después de golf, compré el almuerzo en el campo de golf. Yo compro un sandwich. Después, fui a mi hotel para na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la pisc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819520" cy="18111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1981080" cy="187164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3"/>
          <a:stretch/>
        </p:blipFill>
        <p:spPr>
          <a:xfrm>
            <a:off x="3657600" y="3124080"/>
            <a:ext cx="2438280" cy="14302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8380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campo de g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Final D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35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el final día, me paso el día en el museo de las artes. Es muy bonito, y muy interesante. Pero, muy ocupado. Yo compro una camisa. La camisa tengo los modernas formas. Mi viaje fue excel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3864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5:16Z</dcterms:created>
  <dc:creator>moranhun</dc:creator>
  <dc:description/>
  <dc:language>en-US</dc:language>
  <cp:lastModifiedBy>moranhun</cp:lastModifiedBy>
  <dcterms:modified xsi:type="dcterms:W3CDTF">2011-11-30T16:55:25Z</dcterms:modified>
  <cp:revision>11</cp:revision>
  <dc:subject/>
  <dc:title>Mi viaje a Habana, Cuba</dc:title>
</cp:coreProperties>
</file>